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1B07-0FDC-473D-A34B-858CA1D0B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B760-6ED1-47C5-A420-3BF2E42451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E9EE-7113-44B7-8AE7-A9B810294D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2C4-DE96-4239-8C1E-2277517E7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19E-98EF-409A-BC43-587EC6A831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2415-9F9F-4B46-B73B-36F7597BF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8C26-2C5E-4892-871B-34A551BCF8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F76-6D38-423A-9448-CD3C46501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9689-31B5-4F43-9254-AABBBBA667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D311-710D-49A3-AF5B-6A9D65DBC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78F4-CA11-445F-B580-97530D23FD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A3F-C73D-44CC-A204-0B6B5D12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F35-E03C-482E-A26E-940CE6A3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A38-4BF9-41C8-95F6-E1F0FAAE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DC1-B82F-4558-949B-F74971EC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EA26-81D6-4859-9C1D-4D1D6878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BBA6-7DC3-4FCF-9606-FC9E802B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56EB-5E26-42C0-ACA9-4314452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9C60-DCE2-4886-8128-1B392D22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324F-965C-4F9F-A2CC-04425545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D2AB-E74D-4660-A0AE-7000812D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4273-DF8E-4925-8423-BB6DC417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7D8-DDE2-4D09-89F7-0043A7D8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0E53-BEB8-48C4-8C66-11054F1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F7D8-0031-4E28-822E-31469ABE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91B5-2021-4589-8A6D-E29102B1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9929-3FE7-46FB-83FF-076BEC6A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D524-3C2E-4C33-A119-04DB364B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EC4-C546-4748-B8B6-80719F89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921-1A52-43ED-A15C-0BE26411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48E-2BAD-476C-90B8-C162FE94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F9B-B5FB-4CD6-82FD-78C5856C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EF3-95D8-4903-B03D-816C6CB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177-67AA-47C5-A6A3-34AB78B6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382-E06D-4289-AE15-4D9E7574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029A-BD84-4848-B6CE-C49B1A7AF8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0663-8E77-4513-9941-EAFE3B005C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5160" y="6091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pter Five: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American Revolution, Part On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(from 1764 to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Common Sens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 2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for American Independence Begi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exington &amp; Conc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hot Heard ‘Round the World”; April 19, 177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omas G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aul Revere’s R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merican: 49 KI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41 woun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ritish: 73 KI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74 Woun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lexconcord"/>
          <p:cNvPicPr/>
          <p:nvPr/>
        </p:nvPicPr>
        <p:blipFill>
          <a:blip r:embed="rId1"/>
          <a:stretch/>
        </p:blipFill>
        <p:spPr>
          <a:xfrm>
            <a:off x="4267080" y="1905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War for American Independence Begi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52280" y="1600200"/>
            <a:ext cx="4343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Second Continental Congres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ay 177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ormation of Cont’l Ar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eorge Washing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Battle of Bunker H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Olive Branch Pet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ohn Dickinson-P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ritish respon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Bunker_Hill"/>
          <p:cNvPicPr/>
          <p:nvPr/>
        </p:nvPicPr>
        <p:blipFill>
          <a:blip r:embed="rId1"/>
          <a:stretch/>
        </p:blipFill>
        <p:spPr>
          <a:xfrm>
            <a:off x="4114800" y="3724200"/>
            <a:ext cx="4800600" cy="3133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ContConStateHouse"/>
          <p:cNvPicPr/>
          <p:nvPr/>
        </p:nvPicPr>
        <p:blipFill>
          <a:blip r:embed="rId2"/>
          <a:stretch/>
        </p:blipFill>
        <p:spPr>
          <a:xfrm>
            <a:off x="4419720" y="106668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ommon Sens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omas Pa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Common Sen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rgu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paine-thomas"/>
          <p:cNvPicPr/>
          <p:nvPr/>
        </p:nvPicPr>
        <p:blipFill>
          <a:blip r:embed="rId1"/>
          <a:stretch/>
        </p:blipFill>
        <p:spPr>
          <a:xfrm>
            <a:off x="1143000" y="2590920"/>
            <a:ext cx="3119400" cy="352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lg_640"/>
          <p:cNvPicPr/>
          <p:nvPr/>
        </p:nvPicPr>
        <p:blipFill>
          <a:blip r:embed="rId2"/>
          <a:stretch/>
        </p:blipFill>
        <p:spPr>
          <a:xfrm>
            <a:off x="5410080" y="1219320"/>
            <a:ext cx="3345120" cy="5481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0" y="62485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have it in our power to begin the world anew…America shall make a stand, not for herself, but for the world.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7840" y="1548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Content Placeholder 2" descr=""/>
          <p:cNvPicPr/>
          <p:nvPr/>
        </p:nvPicPr>
        <p:blipFill>
          <a:blip r:embed="rId1"/>
          <a:stretch/>
        </p:blipFill>
        <p:spPr>
          <a:xfrm>
            <a:off x="401760" y="609480"/>
            <a:ext cx="829764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3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at were some of the ways Parliament acted to end the period of “salutary neglect,” following the French and Indian W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were some of the ways American colonists expressed their defiance in the face of new, more punitive laws enacted by the British Gover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at were some of the key developments that pushed colonies from mere defiance to open rebell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New Colonial Syste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lasses Act of 173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Sugar Act/Revenue Act of 17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Stamp Act, 17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egal docs, newspapers, almanacs, d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rotests-sons of libe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VA and RI resol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tamp Act Cong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ore resist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Repe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eclatory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stamp_act"/>
          <p:cNvPicPr/>
          <p:nvPr/>
        </p:nvPicPr>
        <p:blipFill>
          <a:blip r:embed="rId1"/>
          <a:stretch/>
        </p:blipFill>
        <p:spPr>
          <a:xfrm>
            <a:off x="5334120" y="3581280"/>
            <a:ext cx="2960640" cy="309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stampact"/>
          <p:cNvPicPr/>
          <p:nvPr/>
        </p:nvPicPr>
        <p:blipFill>
          <a:blip r:embed="rId2"/>
          <a:stretch/>
        </p:blipFill>
        <p:spPr>
          <a:xfrm>
            <a:off x="5791320" y="838080"/>
            <a:ext cx="213336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ownshend Duties, 176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aint, lead, glass, t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oard of Customs Commission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Vice-admiralty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olonial boycot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articles"/>
          <p:cNvPicPr/>
          <p:nvPr/>
        </p:nvPicPr>
        <p:blipFill>
          <a:blip r:embed="rId1"/>
          <a:stretch/>
        </p:blipFill>
        <p:spPr>
          <a:xfrm>
            <a:off x="-13115880" y="-5991120"/>
            <a:ext cx="6864480" cy="365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articles"/>
          <p:cNvPicPr/>
          <p:nvPr/>
        </p:nvPicPr>
        <p:blipFill>
          <a:blip r:embed="rId2"/>
          <a:stretch/>
        </p:blipFill>
        <p:spPr>
          <a:xfrm>
            <a:off x="685800" y="2209680"/>
            <a:ext cx="7669080" cy="40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The Lib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roops arr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Boston Massac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arch 5, 177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peal of T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rial of sold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The Gaspe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The Gaspee Commission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, 177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Doerflinger"/>
          <p:cNvPicPr/>
          <p:nvPr/>
        </p:nvPicPr>
        <p:blipFill>
          <a:blip r:embed="rId1"/>
          <a:stretch/>
        </p:blipFill>
        <p:spPr>
          <a:xfrm>
            <a:off x="5105520" y="3843360"/>
            <a:ext cx="3886200" cy="301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oston"/>
          <p:cNvPicPr/>
          <p:nvPr/>
        </p:nvPicPr>
        <p:blipFill>
          <a:blip r:embed="rId2"/>
          <a:stretch/>
        </p:blipFill>
        <p:spPr>
          <a:xfrm>
            <a:off x="5105520" y="380880"/>
            <a:ext cx="36576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Tea Act and its aftermat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ea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oston Tea Party (Dec. 177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ercive (Intolerable) Acts 17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oston Harbor 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assachusetts Government 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partial Administration of Justice 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Quartering 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Quebec 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the_bostonians_paying_the_excise_man_or_tarring_and_feathering_1774"/>
          <p:cNvPicPr/>
          <p:nvPr/>
        </p:nvPicPr>
        <p:blipFill>
          <a:blip r:embed="rId1"/>
          <a:stretch/>
        </p:blipFill>
        <p:spPr>
          <a:xfrm>
            <a:off x="5508720" y="1523880"/>
            <a:ext cx="3463920" cy="4838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0" y="3048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ahoma"/>
              </a:rPr>
              <a:t>Punishment of Bost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 rot="20637600">
            <a:off x="360" y="38862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ahoma"/>
              </a:rPr>
              <a:t>Sinister plot against all colon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boston_tea_party_1_lg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First Continental Congres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hiladelph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Galloway’s Plan of U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ntinental Association boyco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eet again next sp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arpenter's Hall"/>
          <p:cNvPicPr/>
          <p:nvPr/>
        </p:nvPicPr>
        <p:blipFill>
          <a:blip r:embed="rId1"/>
          <a:stretch/>
        </p:blipFill>
        <p:spPr>
          <a:xfrm>
            <a:off x="4343400" y="281952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galloway"/>
          <p:cNvPicPr/>
          <p:nvPr/>
        </p:nvPicPr>
        <p:blipFill>
          <a:blip r:embed="rId2"/>
          <a:stretch/>
        </p:blipFill>
        <p:spPr>
          <a:xfrm>
            <a:off x="838080" y="3505320"/>
            <a:ext cx="27831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20:27:54Z</dcterms:created>
  <dc:creator>Daniel J. Tortora</dc:creator>
  <dc:description/>
  <dc:language>en-US</dc:language>
  <cp:lastModifiedBy>Williamson, Franklin</cp:lastModifiedBy>
  <dcterms:modified xsi:type="dcterms:W3CDTF">2019-02-11T16:21:04Z</dcterms:modified>
  <cp:revision>15</cp:revision>
  <dc:subject/>
  <dc:title>Slide 1</dc:title>
</cp:coreProperties>
</file>